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BD3-8D33-48C1-8017-1FB3A955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9D3-C22D-44A3-B17B-5A7E356A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52A26-F945-45DB-B8FB-455FFFD3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0C6A5-91EB-4D34-9E5F-C8504655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DAD86-2910-4501-B8AC-C28D5F6B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9500A-7A1E-4B72-81CE-0BC45754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3A1D9-080F-443D-93C0-A4D4DFD3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EC592-E968-4D96-9C6C-ED7E89F2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2B935-C845-4D9D-B392-88FE21E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278FF-A9DA-4179-A741-0EFC077A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63D53-AAA9-48D6-817F-6C77149D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8FC7F-C538-4278-976B-B1107DD9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81E-E2BF-4AF3-B8E6-2589CEF6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FDB9B-071E-4380-BC1B-C624C481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1C3A3-0F06-4903-BA03-5FF15EBF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12013-F034-41C1-81A4-52AE07BE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7B604-0EA5-4A14-BC0E-09292F05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1A559-22EA-4CEF-B4EA-A16625BC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9C93A-D2CB-4AD6-BF38-055B5E92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AAB6B-8A2D-49A5-BA2E-61AB3A09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A070B-7271-4530-A005-2346CE8D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3CBFC-9754-4A68-97B7-582D8045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F3B40-31E5-481E-96EC-AD6B3519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0A9-6243-4E5F-9700-C503C74B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075A8-25A7-410B-862D-B88CCB2F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3C232-5486-49D5-9966-7A498F4A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D4C92-4B62-41CF-BC73-78A0ED7A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4012A-47F2-4D69-9A08-E853872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24539-30F9-4DC7-B58F-B6CFA18F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48A54-FC73-4088-B5C8-1BAB3187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E01A7-1070-47CF-AB58-7490D9FC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26536-1514-44A9-BC33-66BA64E1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95BF7-807B-4D1E-B022-BE856CC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E76D7-8189-46DC-8F72-6757530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3C30-F653-45F2-B278-A95E3767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790A1-D36E-4F26-B3CE-8B886790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94547-8B1A-47FA-B572-27B5F142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42179-CC61-4558-875D-0DD7AB16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23B47-EA75-4DA0-8806-A83D5844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7130A-003B-4AC5-912A-891692F0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2D969-4DD6-460F-AB16-4E18CBC1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88C03-E728-4884-9292-2043AB87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118D8-26ED-4496-B3D4-4DD37596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24E6D-B0A2-4662-965B-05A6D82D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056ED-02A3-41C3-873C-7003B6E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AFEC-13C4-4F5E-B92B-EB152975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1D8F1-E104-4380-95B9-223B8BCE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8991E-274D-4344-946A-075C3DC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3794F-466C-4F61-A2DB-03E2DA08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154BE-2889-4A82-A11E-697698D6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5791E-CC35-4CA7-9EB2-9BD7B56B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F14EF-4A36-4497-B56B-09D6C9D4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E5827-A681-4627-909A-8AB53DBA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9DC80-6330-4977-A3A4-5EB79338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FD20C-1F39-45E1-8F42-894F0369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504FA-AAE1-4F20-B250-70334790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B875-3B93-4E76-A11E-9DB6095E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A1C67-4AD9-4B17-8E5C-4009EA33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13919-8162-4366-B51C-9C31AF2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0B7CA-A538-430D-8A36-155D2ED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25D88-097A-4248-B12A-F73661A4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A52E4-F4A9-49D3-AD96-C1D6F60A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1BC75-FFB0-424D-98E1-11C4354F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92342-BB45-4130-9808-8EC0A45E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EA6DA-38C1-475B-A5A7-98B78CDF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16EC4-2FA8-4039-A605-85984433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1CD02-5776-45C0-989D-1C458AFB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4D6D-78D8-4AA7-97D4-1FC5B9B7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66844-BB10-4105-8151-04EBB08E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2667D-E356-4186-8CF6-6BE18D5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7CF50-14F2-4F2F-B894-C58BD59C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46586-E9F5-4E14-B057-A09C8C7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52D2E-AE79-4123-99BB-0007F3B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14158-104D-4AFB-8722-CF553AF2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1EA47-4C53-4F44-BCA1-CA77FEC6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B5C34-3080-4BFC-A41C-6C8F932E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3A56F-52D6-4887-895D-18B64717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385A3-FAD2-4BD9-9851-65BCADEA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EA7D-DBFA-4601-8067-6D9EFF3C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C91CE-82CA-47FA-9197-29A11E89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CC1FE-F73C-4294-86E3-4780078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4DE0C-87A1-47D3-8939-2FA26562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C16F5C-8F65-4740-8263-04F3968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99788-4186-44FC-856D-06DDA56D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728E3-2A34-452D-9714-17DDC846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91E55-14D0-4A0C-89F9-4BE002D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C98A3-9D80-46FA-877C-EDC9A30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B8718-62E1-4666-BBF6-7147CDA9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E37134-2D1F-443E-820C-92B002E3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010A-FB07-4D12-8A61-7589C648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4B56A-2A76-4C7F-ADE9-7D26000E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C98EF-BCD8-45DC-84D1-7A83A3FD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E69178-1788-467F-BA79-CCCC6C17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0AF51-97EE-48A1-B971-F342CED7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077B6-EBD2-4554-93E4-13BADBA5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51E8F-A1AD-49BE-A980-CA398273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7FD28-9FD8-4453-BBEC-A0C137BC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94031-2707-420F-8E85-F7876FD4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6F995-3B55-4BB1-8AD5-020B8679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9811F-08C3-4B32-8DBD-D05A4A48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3016-1DDF-41BC-B46F-1975F22F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3807E-A7C8-404D-9CFC-EA876DD9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E6E6E-CBAF-430D-80D2-2FFC849D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1F8A4-157E-42CC-BBA4-86F7A790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46C76-34C1-4A54-8024-9877BA1B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38D13C-78B3-442B-B8CD-D173CD47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03ED1-8B56-4426-B31F-BB32E6F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2C80D-D029-429E-9B65-76A6471D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7638E-E482-4EA4-AC74-EA6F7F22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F441B-53DE-4390-90FC-673828F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983431-F9BA-4272-8D08-D2BA8CD7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3FE-785A-4D52-A493-5424685E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4555-9B23-4874-9A96-B0D68820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CEAD74-CBA2-4060-9AE5-7690419B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9A678-A574-4E0B-A2EC-867752BE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895FF3-3C51-4867-A322-7C82B98A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94A30-A202-42F2-A298-BF067480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96BD4-93AF-402D-90E7-6D251E6E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397A3-113D-43DA-8DF7-0219DDF8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57DA0-ABE7-4902-A208-B90B2CE2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7E69E-0D68-4E3C-9BB0-006AD354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7F286-C9CA-4A7C-8AA7-B9780F6C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88248-E30F-4492-90CF-BC02AC95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8179-0257-483C-8E17-2CD6AC4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F9654-B50D-4E5F-BE12-EA772202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058B59-831B-4AAD-8CE5-3A853DFA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24945-AB04-4F60-90C1-41E31ABA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05344-EF95-407F-B0A4-5142347F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C5835-8E02-4646-83FD-67565D37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277413-572F-4755-8DFA-149307CE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A931A-2C62-4016-B3D0-03EE84A6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67885-462E-42C7-A030-6B2B4239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CC2E72-73FF-4F91-9FD0-91559C68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30B2C-F035-4E3A-9E05-6102CAA2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C1F5-1B61-4A23-99E6-5DE3E70C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8E0A8-A38D-47A4-A954-70BF960B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BB375-ADF9-4CD6-B464-3141D327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13F65A-8A21-415F-B669-76FBF916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89D56-4109-4348-98F0-0A6CE090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8D4B4-C78A-466D-8B9B-5085BD03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545208-9925-4056-8DF7-C989922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84965-38BB-4808-AD83-F01D240C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D8C2F-C37D-4806-9BF0-9908EEE6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0BD93-BF32-42D4-AA80-6735A800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1089AD-9473-46A3-9A36-D58C0EB9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1A06-FABB-46BD-A0D6-9F08440C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6801A2-1DDF-4B19-8F94-FD2F8451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8467FB-6C66-430A-8177-C2D282E3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23DC3-1418-494C-9207-11C467CA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CEA88-EA6E-400B-87D9-F7B067DA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4EFD1D-0064-4570-88BE-C06E4589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F7FAF-208D-46B3-B58C-A61D50D9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B5927-EB97-44C1-9FDB-9A01239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109DF-0C66-48D5-9440-9AD1E1CB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1F198-C678-4632-9D6C-C4D6187A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B89CD-41D3-4589-BE9D-D2F8D669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7A31-BCBC-49E8-A599-0C85A12E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DB5DE-37F3-492C-8F97-F6ED17F2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1B0515-E2A5-43AA-A101-B2368E45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96886-4242-4D3C-989B-6FD70E06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0A4F4-513E-461C-830B-3F0D7E8F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F0670B-BFEB-4068-8F87-BD307E3A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C231E9-F3E7-4844-9D9C-76D893B8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0653D-CB66-41EF-8509-4B2520D6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1C8704-75B9-4F16-8EBC-2D6732F1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A5BF9B-BDF9-4146-8693-1B10C816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68669-0463-4BC9-976D-CBE94BF4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BB73-6433-4C78-8B5E-5A92B49F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529F2-280C-443C-8908-7771F97E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B50131-3FA3-4C33-AE75-AF94509A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0CD55A-374E-4A3A-A0AC-6293B889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0733-B239-47C1-9B4C-053E90A2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69AA-F448-4691-B2CA-172C7340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8CDE-E5FC-4514-854B-5903BEA4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70EC-E1CF-4B1F-A7F6-EA60E9AA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85F-0761-4A19-94B6-2608F05B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B606-8EA5-48A5-8FED-4C8471BD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C4A3-9077-4778-8444-05082D48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AC08-1524-431E-A24F-875ED943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5C71-2BBB-4BFE-9544-8EAC09C1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DD93-C131-45E7-A84E-FEE6CCF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9536-5776-4571-9D75-227C54FD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C109-1495-473E-8097-FC61EA16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1541A-61FA-4A6C-88F0-C7773755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5552-9026-4452-B5D0-0D87FAC0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5EAE-8DC0-4A73-86F4-16611FC1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534-667E-45A0-BBD9-49400B1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59DD-E49C-45BA-BADF-4CE8794D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862A-9E10-4006-A933-AF4000BE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1E71-F214-43F0-91B7-5B915E4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29E01-1D34-494A-A14E-5C10B52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75E5-2CCB-45E8-939C-DD0A9F1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78EA-FFFE-4349-831C-6C4CE407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E6D0-23F6-42C7-92B7-D7232F6E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2800-C23D-426B-A7F5-781C5BD7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2B5F-BDF0-49AF-B4CF-29D8B537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B2855-E7FA-4B3B-AE37-0AAB0AA0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62E-3A64-4910-9EC6-899D8A62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DEA13-7E20-44A8-8BBB-43B602D5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1E1BD-CF58-43D6-87A5-4D2FBD6D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95F49-BAEE-4762-90D1-4584ABAD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F654-2056-449D-9E8D-1AAC4C56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2DE97-6BED-49A0-8095-F2E4836F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D2E4-97B7-40AB-A9E0-BFEBF744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14F9-4A35-4EA9-A489-8BB7C781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8D94F-0CDB-46FA-A0A8-7D150DB0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00BDD-CDE1-48B7-A60E-BE8DF0E0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05E4D-771F-4325-A2D7-5379A464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CD3-BC5A-484D-A173-18999B8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E5E7-F9BB-4EBB-BB55-CDC10174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22FB0-9D35-410A-89D9-533F87A6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3BEED-FB72-4598-9B49-7CDA1702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D64A7-EFEB-45C6-B434-5CD1A6DD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514E-CCFA-402F-A594-85F4FD2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4BB07-EF8D-458A-BBF4-10F8D75C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B2C8-7B07-49D0-9B88-69BB759D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57E92-38F4-450C-99FF-7B12F7F6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6E24-4721-4E59-B5D1-7B6E32D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FBBB-4BFA-4517-89FD-B5F4BFE8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401-9893-4204-AF14-C84FA35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CA56B-7672-4ADE-AC27-E2CEEF62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09F9-6EBA-48E4-AFA5-BF91D1D4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DEDB-CA50-4CA5-94A0-FC20EDB9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39B4E-323C-48B1-913E-0E45C6E3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B4A3A-9E6D-4359-A62A-B8F786B9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953DF-0142-459F-B8B2-C794E28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0A59B-169B-4C6B-98E0-873CB78F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243B-A243-43C4-AA61-A9FF138C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14809-3B9F-4FEE-812C-F0DC5945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6D30-3340-4A0C-9F92-688F1ED7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3DB-DC1D-4927-96A4-4BCC22B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CEBB4-B0D2-4ACA-80A7-7CED7FF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87C9-0F05-46D7-8F05-F59F858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4A06D-C791-4ED3-9279-ECF339D1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B7A1-76E3-485C-A9EE-511B02FA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12211-30BA-49A8-9F93-2B2DA48A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FCC87-B0E0-40DD-93D6-5A45C0DB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42B03-EBA2-46D8-BDC2-81C1147B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2B6DE-4B1A-40F2-91D4-F3F52971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F204F-6384-4B05-9245-47AE755A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AFEAF-C842-4BAB-976D-792D5B89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69A-ED95-4400-85EA-285FB165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1BD46-571A-40CC-95A1-A942CD10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FF17B-1FB6-40EC-A019-86457906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BB157-41A3-4C4B-A628-8A9448A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361FF-DE25-4A77-97BA-A7B12FD3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2E822-5CFF-4373-AE9F-2970B7A0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707A3-9EBA-45DF-AADF-B1641DE2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2E5A2-FF6B-4DEE-9673-198AECE6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672AC-1DA3-4135-952C-46A48CE2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2ABF5-4AF8-4D9C-B890-E91A2DC6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45D83-66C5-4C47-B273-BA9D08F3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1E27-5AD6-4D38-8A50-B0EBF4DD2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C582-78A0-401E-B98E-415D196FE3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7B94-FB3C-4F9F-B846-9B0E3C7831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5EE2-ACBB-4474-9290-3A65BFDDA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F294-BABC-44D4-8228-5E0327B23F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2834-835B-4FC4-8001-F7D9AF5DA5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295-244F-4186-A313-3ADA65174F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012F-1393-463C-ADF1-87606E59A6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B202-B486-4914-AD6C-567D798C4A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4FA5-6147-475E-8DCB-456E216838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5B63-8AAA-4CA3-AC55-34D0ABA2BF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5FA5-A840-483B-80CB-28153AF567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E7B5-D4B5-4E21-AE14-9D6A4514A7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61F4-BB76-427A-83BA-BD66DE2A1B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819-A8DF-4898-A09A-0C378EE97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A089-6CE9-4602-8385-DEF0C215DE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A373-EFAF-4520-98A0-D5607E85F7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5FB3-4425-4C43-860F-3C8F424AC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90F0-5BB0-45C9-8BD0-A65A969B2B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94F0-A265-4BC1-85A4-EA2D0247E3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5C8-3C19-47D9-AAD0-B5C802D79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0AFF-2512-42C2-ABCF-6815E5BD4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504A-E3E6-41C5-BB61-38735DE9B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F00-01C7-4E05-9D07-93921B245E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297C-25B5-4519-A43E-46DA9181F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EB00-268B-4BEF-A239-F7A6A504A5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7F0A-76DA-4E48-8ED5-12FFD3BB4A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95EB-953E-46F5-81FF-8499F67D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C96A-7137-48FA-9789-0572B258B3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9058-7DD1-4DF1-B71E-90F5438AA2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DCFA-9370-4570-AFAB-2D280F896D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6C22-98AB-49D9-8D1A-E71BB4BF41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987F-5269-4184-B297-BC870C54B6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3EE3-2E61-4207-860C-64E075B136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6113-1E95-4F8A-ABDE-61808DD13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2552-47B5-4031-93A9-16D0CA1EA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687A-B39A-401C-9789-F92A9B6D5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A399-F7D7-473E-8F64-79DF363390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D69F-3C77-4DE1-910A-58BD0371A7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C8CA-77B1-48ED-8095-28924AF03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961920" y="3038400"/>
            <a:ext cx="7220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76280" y="771480"/>
            <a:ext cx="8191440" cy="531504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357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857160" y="42148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542880" y="2033640"/>
            <a:ext cx="8058240" cy="27907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00080" y="207180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476280" y="1338120"/>
            <a:ext cx="8191440" cy="418176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928800" y="128592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857160" y="4143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642960" y="857160"/>
            <a:ext cx="7943760" cy="1000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642960" y="1928880"/>
            <a:ext cx="8210520" cy="34383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3"/>
          <p:cNvSpPr/>
          <p:nvPr/>
        </p:nvSpPr>
        <p:spPr>
          <a:xfrm>
            <a:off x="6929280" y="1357200"/>
            <a:ext cx="12146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6775560" y="2063880"/>
            <a:ext cx="1571400" cy="415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5872320" y="3054240"/>
            <a:ext cx="785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6143760" y="3929040"/>
            <a:ext cx="142848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3043080" y="4869000"/>
            <a:ext cx="12146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433440" y="1138320"/>
            <a:ext cx="8277120" cy="458136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3454560" y="2065320"/>
            <a:ext cx="121428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5189400" y="2046240"/>
            <a:ext cx="7146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6700680" y="2049480"/>
            <a:ext cx="1586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1000080" y="2500200"/>
            <a:ext cx="9288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2428920" y="2500200"/>
            <a:ext cx="7142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2714760" y="3429000"/>
            <a:ext cx="6429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3929040" y="342900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9"/>
          <p:cNvSpPr/>
          <p:nvPr/>
        </p:nvSpPr>
        <p:spPr>
          <a:xfrm>
            <a:off x="5357880" y="3429000"/>
            <a:ext cx="7858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"/>
          <p:cNvSpPr/>
          <p:nvPr/>
        </p:nvSpPr>
        <p:spPr>
          <a:xfrm>
            <a:off x="4643280" y="485784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1"/>
          <p:cNvSpPr/>
          <p:nvPr/>
        </p:nvSpPr>
        <p:spPr>
          <a:xfrm>
            <a:off x="5929200" y="4857840"/>
            <a:ext cx="14288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423720" y="2019240"/>
            <a:ext cx="8296560" cy="281952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6215040" y="2500200"/>
            <a:ext cx="12146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1239840" y="2940120"/>
            <a:ext cx="12142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4"/>
          <p:cNvSpPr/>
          <p:nvPr/>
        </p:nvSpPr>
        <p:spPr>
          <a:xfrm>
            <a:off x="1193760" y="3917880"/>
            <a:ext cx="18064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"/>
          <p:cNvSpPr/>
          <p:nvPr/>
        </p:nvSpPr>
        <p:spPr>
          <a:xfrm>
            <a:off x="3522600" y="3894120"/>
            <a:ext cx="57168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6"/>
          <p:cNvSpPr/>
          <p:nvPr/>
        </p:nvSpPr>
        <p:spPr>
          <a:xfrm>
            <a:off x="4786200" y="385776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7"/>
          <p:cNvSpPr/>
          <p:nvPr/>
        </p:nvSpPr>
        <p:spPr>
          <a:xfrm>
            <a:off x="5857920" y="3929040"/>
            <a:ext cx="78588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8"/>
          <p:cNvSpPr/>
          <p:nvPr/>
        </p:nvSpPr>
        <p:spPr>
          <a:xfrm>
            <a:off x="7143840" y="3857760"/>
            <a:ext cx="5713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466560" y="752400"/>
            <a:ext cx="8210880" cy="5353200"/>
          </a:xfrm>
          <a:prstGeom prst="rect">
            <a:avLst/>
          </a:prstGeom>
          <a:ln w="0">
            <a:noFill/>
          </a:ln>
        </p:spPr>
      </p:pic>
      <p:sp>
        <p:nvSpPr>
          <p:cNvPr id="1058" name="矩形 2"/>
          <p:cNvSpPr/>
          <p:nvPr/>
        </p:nvSpPr>
        <p:spPr>
          <a:xfrm>
            <a:off x="1500120" y="328608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6715080" y="421488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4"/>
          <p:cNvSpPr/>
          <p:nvPr/>
        </p:nvSpPr>
        <p:spPr>
          <a:xfrm>
            <a:off x="1643040" y="5643720"/>
            <a:ext cx="5716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153280" cy="6072120"/>
          </a:xfrm>
          <a:prstGeom prst="rect">
            <a:avLst/>
          </a:prstGeom>
          <a:ln w="0">
            <a:noFill/>
          </a:ln>
        </p:spPr>
      </p:pic>
      <p:sp>
        <p:nvSpPr>
          <p:cNvPr id="1062" name="矩形 2"/>
          <p:cNvSpPr/>
          <p:nvPr/>
        </p:nvSpPr>
        <p:spPr>
          <a:xfrm>
            <a:off x="5578560" y="12286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3"/>
          <p:cNvSpPr/>
          <p:nvPr/>
        </p:nvSpPr>
        <p:spPr>
          <a:xfrm>
            <a:off x="1571760" y="2143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01:0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